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4DF3-62A1-4895-8469-D5FA9F8EA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ilit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you m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nd lead mee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teachers technology-rich lessons, templates, or Web s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bo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you m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 teachers in writing/adapting standards-based, technology-rich lessons, activities, or uni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teachers technology-rich lessons, templates, or Web s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a colleague as equals on a pro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l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you m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and take on the role as expe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effective ways to integrate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-teach a less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ly share examples of studen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examples of technology-rich lessons at staff mee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you m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your cooperating teachers to become independent learn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nication skills to focus on student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relationships and tru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7C6-6874-4BD3-8732-DD86F70C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B1D-A56B-462A-BE33-DCC27A13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415-B9D2-49D2-83CA-72A3795D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F88-FD53-4D34-89C8-38E5E045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99E-E1AE-4B2A-8061-348419BE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8A6-5F38-45EA-BAB5-A46EA83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405-DB24-44A4-9F34-289D7581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01C-BE7A-4F46-ADE0-55EC8FC3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70B-AF43-44EE-9310-86A76F66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024-FF22-432E-BA9F-E6BC01C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ADC-D2AA-4E57-B46F-2447698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B57-8495-4DBC-BFD4-663DAA15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7060-5C57-4801-A2B2-AA634EA5D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hancing Education Through Technology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eer Coach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 </a:t>
            </a:r>
            <a:br>
              <a:rPr sz="4400"/>
            </a:br>
            <a:br>
              <a:rPr sz="44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onsored by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will we sha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ct Technology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re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oal of the EETT Grant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eer Coaching Progr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ll enhance standards-based instr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assisting teachers to offer students engaging, technology-rich, learning activit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Peer Coaching?</a:t>
            </a:r>
            <a:br>
              <a:rPr sz="6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lvl="3" marL="1040040" indent="-148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st typical models of professional development emphasize theory and prac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was adapted from research on the impact of professional development (Joyce &amp; Showers, 1994; Showers, Murphy &amp; Joyce, 199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0720" y="2590920"/>
          <a:ext cx="7772400" cy="1912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59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ype of Tr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nowledge Mast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kill Acqui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Classroom 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heory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–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actice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–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sort of impact does professional development, including coaching, have on classroom practic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ional development that includes peer coaching, study teams, or peer visits to provide opportunities for collaboration, feedback, and reflection, has a clear impact on classroom practice, as the last row in the following table sugges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3276720"/>
          <a:ext cx="7620120" cy="1828800"/>
        </p:xfrm>
        <a:graphic>
          <a:graphicData uri="http://schemas.openxmlformats.org/drawingml/2006/table">
            <a:tbl>
              <a:tblPr/>
              <a:tblGrid>
                <a:gridCol w="2013120"/>
                <a:gridCol w="1797120"/>
                <a:gridCol w="1904760"/>
                <a:gridCol w="190512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ype of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nowledge Mast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kill Acqui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Classroom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heory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–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actice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–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Coaching, Study Team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0–90%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goal of the coaching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0106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roles do coaches pl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will be in coache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s who have an interest in increasing their connections between standards based instruction and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s who have intermediate to advanced skills with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s willing to step out of their comfort zone and take a risk with their stud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resources are available from the EETT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for tim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fo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will benef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partner in learning and creating new applied learning situations with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ating Teachers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earning new ways to realistically integrate technology into their class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U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7:49:16Z</dcterms:created>
  <dc:creator>01167</dc:creator>
  <dc:description/>
  <dc:language>en-US</dc:language>
  <cp:lastModifiedBy>BSD501</cp:lastModifiedBy>
  <dcterms:modified xsi:type="dcterms:W3CDTF">2007-07-31T19:42:25Z</dcterms:modified>
  <cp:revision>10</cp:revision>
  <dc:subject/>
  <dc:title>EETT Peer Coaching </dc:title>
</cp:coreProperties>
</file>